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Tahoma"/>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Tahoma"/>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13-</a:t>
            </a:r>
            <a:fld id="{AC088A64-F9F4-4473-B0C9-5FFC7B590B49}"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Tahoma"/>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Tahoma"/>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13</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a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equently, no property is levied for education, and no prescribed formula is used to fund public sch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support for public schools is derived from the general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ax Rate</a:t>
            </a:r>
            <a:endParaRPr b="0" lang="en-US" sz="3600" spc="-1" strike="noStrike">
              <a:solidFill>
                <a:srgbClr val="333399"/>
              </a:solidFill>
              <a:latin typeface="Tahoma"/>
            </a:endParaRPr>
          </a:p>
        </p:txBody>
      </p:sp>
      <p:sp>
        <p:nvSpPr>
          <p:cNvPr id="98"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local district formulates its budget based on anticipated needs of the district, it may be necessary to levy taxes to generate needed fun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x rates are generally based on estimated revenue needed by the district to meet its financial needs.</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imated revenue projections must be realistic, made in good faith, and based on defensible groun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 school districts may not use their taxing authority with the express purpose of creating a surplus fund.</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not unusual for taxpayers to challenge the validity of a tax levy for school based on a claim that the tax levy is excessive and extends beyond the needs of the district.</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Challenges to </a:t>
            </a:r>
            <a:br>
              <a:rPr sz="3600"/>
            </a:br>
            <a:r>
              <a:rPr b="0" lang="en-US" sz="3600" spc="-1" strike="noStrike">
                <a:solidFill>
                  <a:srgbClr val="333399"/>
                </a:solidFill>
                <a:latin typeface="Tahoma"/>
              </a:rPr>
              <a:t>School Funding</a:t>
            </a:r>
            <a:endParaRPr b="0" lang="en-US" sz="3600" spc="-1" strike="noStrike">
              <a:solidFill>
                <a:srgbClr val="333399"/>
              </a:solidFill>
              <a:latin typeface="Tahoma"/>
            </a:endParaRPr>
          </a:p>
        </p:txBody>
      </p:sp>
      <p:sp>
        <p:nvSpPr>
          <p:cNvPr id="102"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finance programs have been challenged under both federal and state constitutions.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challenges have focused on issues regarding equity of finance programs with respect to tax burdens.</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53">
                                  <p:stCondLst>
                                    <p:cond delay="0"/>
                                  </p:stCondLst>
                                  <p:childTnLst>
                                    <p:set>
                                      <p:cBhvr>
                                        <p:cTn id="22" dur="1" fill="hold">
                                          <p:stCondLst>
                                            <p:cond delay="0"/>
                                          </p:stCondLst>
                                        </p:cTn>
                                        <p:tgtEl>
                                          <p:spTgt spid="101"/>
                                        </p:tgtEl>
                                        <p:attrNameLst>
                                          <p:attrName>style.visibility</p:attrName>
                                        </p:attrNameLst>
                                      </p:cBhvr>
                                      <p:to>
                                        <p:strVal val="visible"/>
                                      </p:to>
                                    </p:set>
                                    <p:anim calcmode="lin" valueType="num">
                                      <p:cBhvr additive="repl">
                                        <p:cTn id="23" dur="500" fill="hold"/>
                                        <p:tgtEl>
                                          <p:spTgt spid="101"/>
                                        </p:tgtEl>
                                        <p:attrNameLst>
                                          <p:attrName>ppt_w</p:attrName>
                                        </p:attrNameLst>
                                      </p:cBhvr>
                                      <p:tavLst>
                                        <p:tav tm="0">
                                          <p:val>
                                            <p:fltVal val="0"/>
                                          </p:val>
                                        </p:tav>
                                        <p:tav tm="100000">
                                          <p:val>
                                            <p:strVal val="#ppt_w"/>
                                          </p:val>
                                        </p:tav>
                                      </p:tavLst>
                                    </p:anim>
                                    <p:anim calcmode="lin" valueType="num">
                                      <p:cBhvr additive="repl">
                                        <p:cTn id="24" dur="500" fill="hold"/>
                                        <p:tgtEl>
                                          <p:spTgt spid="101"/>
                                        </p:tgtEl>
                                        <p:attrNameLst>
                                          <p:attrName>ppt_h</p:attrName>
                                        </p:attrNameLst>
                                      </p:cBhvr>
                                      <p:tavLst>
                                        <p:tav tm="0">
                                          <p:val>
                                            <p:fltVal val="0"/>
                                          </p:val>
                                        </p:tav>
                                        <p:tav tm="100000">
                                          <p:val>
                                            <p:strVal val="#ppt_h"/>
                                          </p:val>
                                        </p:tav>
                                      </p:tavLst>
                                    </p:anim>
                                    <p:animEffect filter="fade" transition="in">
                                      <p:cBhvr additive="repl">
                                        <p:cTn id="25" dur="500"/>
                                        <p:tgtEl>
                                          <p:spTgt spid="101"/>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102">
                                            <p:txEl>
                                              <p:pRg st="0" end="0"/>
                                            </p:txEl>
                                          </p:spTgt>
                                        </p:tgtEl>
                                        <p:attrNameLst>
                                          <p:attrName>style.visibility</p:attrName>
                                        </p:attrNameLst>
                                      </p:cBhvr>
                                      <p:to>
                                        <p:strVal val="visible"/>
                                      </p:to>
                                    </p:set>
                                    <p:anim calcmode="lin" valueType="num">
                                      <p:cBhvr additive="repl">
                                        <p:cTn id="30"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102">
                                            <p:txEl>
                                              <p:pRg st="0" end="0"/>
                                            </p:txEl>
                                          </p:spTgt>
                                        </p:tgtEl>
                                        <p:attrNameLst>
                                          <p:attrName>ppt_h</p:attrName>
                                        </p:attrNameLst>
                                      </p:cBhvr>
                                      <p:tavLst>
                                        <p:tav tm="0">
                                          <p:val>
                                            <p:fltVal val="0"/>
                                          </p:val>
                                        </p:tav>
                                        <p:tav tm="100000">
                                          <p:val>
                                            <p:strVal val="#ppt_h"/>
                                          </p:val>
                                        </p:tav>
                                      </p:tavLst>
                                    </p:anim>
                                    <p:animEffect filter="fade" transition="in">
                                      <p:cBhvr additive="repl">
                                        <p:cTn id="32" dur="500"/>
                                        <p:tgtEl>
                                          <p:spTgt spid="102">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stCondLst>
                                    <p:cond delay="0"/>
                                  </p:stCondLst>
                                  <p:childTnLst>
                                    <p:set>
                                      <p:cBhvr>
                                        <p:cTn id="36" dur="1" fill="hold">
                                          <p:stCondLst>
                                            <p:cond delay="0"/>
                                          </p:stCondLst>
                                        </p:cTn>
                                        <p:tgtEl>
                                          <p:spTgt spid="102">
                                            <p:txEl>
                                              <p:pRg st="1" end="1"/>
                                            </p:txEl>
                                          </p:spTgt>
                                        </p:tgtEl>
                                        <p:attrNameLst>
                                          <p:attrName>style.visibility</p:attrName>
                                        </p:attrNameLst>
                                      </p:cBhvr>
                                      <p:to>
                                        <p:strVal val="visible"/>
                                      </p:to>
                                    </p:set>
                                    <p:anim calcmode="lin" valueType="num">
                                      <p:cBhvr additive="repl">
                                        <p:cTn id="37"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102">
                                            <p:txEl>
                                              <p:pRg st="1" end="1"/>
                                            </p:txEl>
                                          </p:spTgt>
                                        </p:tgtEl>
                                        <p:attrNameLst>
                                          <p:attrName>ppt_h</p:attrName>
                                        </p:attrNameLst>
                                      </p:cBhvr>
                                      <p:tavLst>
                                        <p:tav tm="0">
                                          <p:val>
                                            <p:fltVal val="0"/>
                                          </p:val>
                                        </p:tav>
                                        <p:tav tm="100000">
                                          <p:val>
                                            <p:strVal val="#ppt_h"/>
                                          </p:val>
                                        </p:tav>
                                      </p:tavLst>
                                    </p:anim>
                                    <p:animEffect filter="fade" transition="in">
                                      <p:cBhvr additive="repl">
                                        <p:cTn id="39"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challenges involve assertions that parents and their children are denied the benefits of an equal educational opportunity based on disparities in tax revenue and distribution of revenue among school districts within a state.</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San Antonio Independent </a:t>
            </a:r>
            <a:br>
              <a:rPr sz="3600"/>
            </a:br>
            <a:r>
              <a:rPr b="0" i="1" lang="en-US" sz="3600" spc="-1" strike="noStrike">
                <a:solidFill>
                  <a:srgbClr val="333399"/>
                </a:solidFill>
                <a:latin typeface="Tahoma"/>
              </a:rPr>
              <a:t>School District v. Rodriquez</a:t>
            </a:r>
            <a:endParaRPr b="0" lang="en-US" sz="3600" spc="-1" strike="noStrike">
              <a:solidFill>
                <a:srgbClr val="333399"/>
              </a:solidFill>
              <a:latin typeface="Tahoma"/>
            </a:endParaRPr>
          </a:p>
        </p:txBody>
      </p:sp>
      <p:sp>
        <p:nvSpPr>
          <p:cNvPr id="105"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gal challenges were pursued at both the state and federal level challenging funding programs throughout the country using the fiscal neutrality standard embraced in </a:t>
            </a:r>
            <a:r>
              <a:rPr b="0" i="1" lang="en-US" sz="2800" spc="-1" strike="noStrike">
                <a:solidFill>
                  <a:srgbClr val="000000"/>
                </a:solidFill>
                <a:latin typeface="Tahoma"/>
              </a:rPr>
              <a:t>Serrano</a:t>
            </a:r>
            <a:r>
              <a:rPr b="0" lang="en-US" sz="2800" spc="-1" strike="noStrike">
                <a:solidFill>
                  <a:srgbClr val="000000"/>
                </a:solidFill>
                <a:latin typeface="Tahoma"/>
              </a:rPr>
              <a:t> to address disparity in wealth among school districts.</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such case in Texas reached the U.S. Supreme Court.  In a 5-4 decision, the Supreme Court reversed a lower court’s ruling that the Texas finance system was unconstitutional.</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urt did note the discrepancies created by the funding system where great disparities existed regarding ad valorem taxes from one district to another.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spite of these discrepancies, the court concluded that the Texas funding system did not work to the disadvantage of any class or group since the disadvantages occurred only between districts regardless of the relative wealth of any family within the district.  </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S. Constitution imposes no legal obligation on the Federal Government to operate a public education system.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legislatures are generally authorized to provide for a public education system.</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i="1" lang="en-US" sz="2800" spc="-1" strike="noStrike">
                <a:solidFill>
                  <a:srgbClr val="000000"/>
                </a:solidFill>
                <a:latin typeface="Tahoma"/>
              </a:rPr>
              <a:t>Rodriquez</a:t>
            </a:r>
            <a:r>
              <a:rPr b="0" lang="en-US" sz="2800" spc="-1" strike="noStrike">
                <a:solidFill>
                  <a:srgbClr val="000000"/>
                </a:solidFill>
                <a:latin typeface="Tahoma"/>
              </a:rPr>
              <a:t> ruling essentially removed future finance cases from reaching the highest court in the l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S. Supreme Court’s decision effectively placed legal challenges regarding school funding programs in the state courts since education is a function of the states.</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pelling aspect of the </a:t>
            </a:r>
            <a:r>
              <a:rPr b="0" i="1" lang="en-US" sz="2800" spc="-1" strike="noStrike">
                <a:solidFill>
                  <a:srgbClr val="000000"/>
                </a:solidFill>
                <a:latin typeface="Tahoma"/>
              </a:rPr>
              <a:t>Rodriquez</a:t>
            </a:r>
            <a:r>
              <a:rPr b="0" lang="en-US" sz="2800" spc="-1" strike="noStrike">
                <a:solidFill>
                  <a:srgbClr val="000000"/>
                </a:solidFill>
                <a:latin typeface="Tahoma"/>
              </a:rPr>
              <a:t> ruling was that Texas case did not interfere with a “fundamental” right since education, while undeniably of high importance, is not recognized by the High Court as being among those guaranteed by the Constitu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quity Funding in Education</a:t>
            </a:r>
            <a:endParaRPr b="0" lang="en-US" sz="3600" spc="-1" strike="noStrike">
              <a:solidFill>
                <a:srgbClr val="333399"/>
              </a:solidFill>
              <a:latin typeface="Tahoma"/>
            </a:endParaRPr>
          </a:p>
        </p:txBody>
      </p:sp>
      <p:sp>
        <p:nvSpPr>
          <p:cNvPr id="112"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ity may be defined differently among state lawma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ever, it typically means that per pupil expenditures are equally distributed through a local school district.</a:t>
            </a:r>
            <a:endParaRPr b="0" lang="en-US" sz="2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09120" y="837720"/>
            <a:ext cx="8153640" cy="46119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property tax is most frequently used to support local education, there are disparities throughout a state based on the level of local revenue generated by  property tax.</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states attempt to generate funding formulas that subsidize local effort to compensate for disparities among wealthy and less wealthy districts.</a:t>
            </a:r>
            <a:endParaRPr b="0" lang="en-US" sz="2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ically, the equity formula includes state aid minus local effort as a means of creating parity in funding schools throughout the sta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states refer to such formulas as power equalization formulas or district equalization formulas.</a:t>
            </a:r>
            <a:endParaRPr b="0" lang="en-US" sz="28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09480" y="837720"/>
            <a:ext cx="7772400" cy="44593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heory behind this approach is grounded in the need to provide equal educational opportunities for all students irrespective of socioeconomic statu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al educational opportunity occurs when all school districts within a state have equal access to resources that are necessary to provide an education up to a prescribed level.</a:t>
            </a:r>
            <a:endParaRPr b="0" lang="en-US" sz="28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ity formulas by definition are input based and have been the target of legal challenges over several decades based on funding disparities.</a:t>
            </a:r>
            <a:endParaRPr b="0"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57200"/>
            <a:ext cx="8410320" cy="130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quity and Adequacy of Funding for Public Schools</a:t>
            </a:r>
            <a:endParaRPr b="0" lang="en-US" sz="3600" spc="-1" strike="noStrike">
              <a:solidFill>
                <a:srgbClr val="333399"/>
              </a:solidFill>
              <a:latin typeface="Tahoma"/>
            </a:endParaRPr>
          </a:p>
        </p:txBody>
      </p:sp>
      <p:sp>
        <p:nvSpPr>
          <p:cNvPr id="118" name=""/>
          <p:cNvSpPr txBox="1"/>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recent years, many states have commissioned studies to determine the adequacy of their public education syste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on adequacy is a departure from their traditional focus on equity.</a:t>
            </a:r>
            <a:endParaRPr b="0" lang="en-US" sz="28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ity denotes fairness, which suggests that all communities, rich or poor, are taxed at similar rates and have equal access to similar amounts of revenue per student—and which does not occur in most stat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equacy, on the other hand, focuses on a minimal level of funding needed for every school to teach its students, thus subscribing to an education that is adequate rather than excelle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may also levy taxes and develop a systematic method of distributing school fund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districts are agents of the state but do not possess broad powers to levy taxes and are subject only to the powers delegated to them by the legislature. </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schools across the United States are facing increased pressure to improve the overall quality of education provided for students and have commissioned adequacy stud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egislature does have discretionary power to delegate taxing authority to local school districts if it chooses to do so as long as state constitutional tax limitations are me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xing authority cannot be delegated to subordinate bodies unless there are clear limitations or restrictions placed on the delegated power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 calcmode="lin" valueType="num">
                                      <p:cBhvr additive="repl">
                                        <p:cTn id="7"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89">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89">
                                            <p:txEl>
                                              <p:pRg st="1" end="1"/>
                                            </p:txEl>
                                          </p:spTgt>
                                        </p:tgtEl>
                                        <p:attrNameLst>
                                          <p:attrName>style.visibility</p:attrName>
                                        </p:attrNameLst>
                                      </p:cBhvr>
                                      <p:to>
                                        <p:strVal val="visible"/>
                                      </p:to>
                                    </p:set>
                                    <p:anim calcmode="lin" valueType="num">
                                      <p:cBhvr additive="repl">
                                        <p:cTn id="14"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89">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85440"/>
            <a:ext cx="822024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axation for Public Schools</a:t>
            </a:r>
            <a:endParaRPr b="0" lang="en-US" sz="3600" spc="-1" strike="noStrike">
              <a:solidFill>
                <a:srgbClr val="333399"/>
              </a:solidFill>
              <a:latin typeface="Tahoma"/>
            </a:endParaRPr>
          </a:p>
        </p:txBody>
      </p:sp>
      <p:sp>
        <p:nvSpPr>
          <p:cNvPr id="91" name=""/>
          <p:cNvSpPr txBox="1"/>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and local tax account for over 90 percent of educational expenditu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les taxes and income taxes are primary sources of state funding whereas property tax represents the most abundant source at the local level.</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erty taxes are generally characterized as real property or personal property and contribute the major source of funding for public sch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hree basic types of taxes are progressive, regressive, and proporti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progressive tax, the rate of tax increases as the base increases.</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equently, a larger percentage of income is taken as taxpayer income increa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onal income and property tax are examples of progressive tax.</a:t>
            </a:r>
            <a:endParaRPr b="0" lang="en-US" sz="2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regressive taxes, tax rates decrease when the tax base increases, with higher income residents paying a smaller percentage than lower income resid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soline and cigarette taxes are examples of regressive taxation.</a:t>
            </a:r>
            <a:endParaRPr b="0" lang="en-US" sz="2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proportional or flat tax, the rate remains the same irrespective of income or wealth.</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les tax and estate wealth are examples of proportional tax.</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waii is the only state with a single, statewide school district.</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14:53Z</dcterms:created>
  <dc:creator>cbrown</dc:creator>
  <dc:description/>
  <dc:language>en-US</dc:language>
  <cp:lastModifiedBy>T61Image</cp:lastModifiedBy>
  <dcterms:modified xsi:type="dcterms:W3CDTF">2013-09-16T22:57:53Z</dcterms:modified>
  <cp:revision>47</cp:revision>
  <dc:subject/>
  <dc:title>Terms and Conditions of Employment</dc:title>
</cp:coreProperties>
</file>